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31C-10F6-4D9C-9F50-11DD1F1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7E7-040F-4C53-8A61-A502B8C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831-921A-4081-A9E4-EB8314E2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F65-5240-4405-86C4-4260DB66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41B-780F-4F6D-A57A-307FBFE1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6EF-ED25-49E1-9108-376D57D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811-2E6D-4461-9AA2-2C054D51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694-B4AD-4A78-903D-E3A5C1A8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D3C-DFE5-4927-86CE-86E9FB2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D96-EF01-40B3-8800-60E6DEE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E47-B7C2-42B8-95AB-3A56DBD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CEB-519A-4A9D-97C6-20538BB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E61-B931-41AB-9531-DAAE383B9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deral R&amp;D and the Development of U.S.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. Mow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as School of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C.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N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softwar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650 and 360 mainframe computers formed platforms for SW user-developers and independent develop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PC era, rapid adoption created a large domestic installed base and market for “shrinkwrap” SW that spurred user-driven innovation and “co-invention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funding of academic computer science provided people &amp; ideas for SW indus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Rs remained relatively weak/uncertain until the 1980s, prior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iamond v. Dieh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ilure of “Ada” SW development program of the 1980s illustrates declining DoD influence on SW industry, contrasting with COBOL in 1950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ucture of US public R&amp;D programs in IT was nearly as important as their sca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research performers and would-be commerciali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ralism and competition among sources of R&amp;D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nce by federal agencies on extramural R&amp;D performers rather than public labora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policy extended beyond support for R&amp;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encouraging adoption, entry, interfirm technology flows enhanced impact of R&amp;D funding on competition, inno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R&amp;D investments supported growth of infrastructure for training scientists &amp; engineers in IT-related fiel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(2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ense-related procurement in semiconductors, computers complemented R&amp;D spending and affected the development of industry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with new firms aided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gov’t “buys” of new products acted like “priz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ing the early period of IT industry’s development (circa 1950-80), relatively weak IPRs were associated with considerable new-firm en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 of industry &amp; universities in innovation contrast among these 3 sectors and change over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D influence was critical in the early development of IT, but declined in all 3 sectors with growth of nonmilitary sources of demand and R&amp;D fun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energy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istory highlights importance of demand-side policy for adoption &amp; industry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energy technologies, larger installed b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lerate technical progress through user inno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demand-side policy has been err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ce of consistent demand-side policy exacerbated by wide swings in fossil-fuel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&amp;D funding has tended to track price swings, exacerbating in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T, early-stage gov’t (military) demand focused on performance more than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technologies often have to meet a more complex set of performance criteria, and compete with mature technologies in man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“new industries” emerged during 1945-1980 in information tech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R&amp;D spending was essential to the creation of these industries, bu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s of Federal R&amp;D investment were influenced by other policies, notably procurement, antitrust, and IP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ime military R&amp;D in electronics &amp; radar technologies supported work on semiconductor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stor was developed within Bell Labs R&amp;D program on long-distance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Labs team “raced” Purdue University researchers in discovering the transistor, but industry subsequently assumed leadership in technology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6-57:  Stanford Prof. James Gibbons was seconded to Shockley Semiconductor to learn semiconductor fabrication techn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antitrust suit against AT&amp;T influenced corporate decision to disseminate technology and knowhow about tran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&amp;T sponsored seminars in 1951 &amp; 1952 on transistor product and process techn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6 settlem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.S. v. AT&amp;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ed low-cost licensing of its large patent portfolio by AT&amp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&amp;T at center, patent cross-licensing was 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litary R&amp;D focused mainly on production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late 1950s, objectives had broadened, and federal funding accounted for almost 25% of industry R&amp;D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R&amp;D in “molecular electronics” supported established firms, produced limited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959, “new firms” received 22% of federal R&amp;D contracts, yet accounted for 63% of industry s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ze” of DoD procurement contracts led Texas Instruments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er of silicon junction transistor, to develop the integrated circuit in 195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urement policy influenced industry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D awarded procurement contracts to new, vertically specialized “merchant” producers, influencing evolution of industry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D orders enabled entrants to exploit learning, reduce costs, and penetrate civilian mark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sourcing” procurement requirements accelerated interfirm technology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iconductor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-related R&amp;D funding important, but procurement also influenced innovation and growth of commercia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trust policy and procurement policy reduced entry barriers &amp; supported substantial interfirm flows of technological knowledge, know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ary effects of IPRs were lim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 v. AT&amp;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 decree, cross-licensing of pa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dominance by AT&amp;T in commercial development of the technology was forestalled at an early point in the industry’s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influence declined as nonmilitary sales expan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HSIC program of 1980s &amp; 1990s had limited influence on trajectory of industry’s technology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originated in WWII military demand for ballistics computations, cryptograp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were important sources of early technological developments in computers (e.g., magnetic memory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’s Lincoln Labs managed SAGE strategic air defense project in early 1950s for which IBM supplied computer hard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spending (largely defense-related) supported 59% of computer-related R&amp;D of major U.S. computer firms during 1949-5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early 1980s, federal funds accounted for roughly 15% of industry-wide R&amp;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&amp; NSF funded purchase of hardware for US universities that aided development of computer science departments in late 1950s, 196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agencies funded 75% of  math/computer science research performed in universities during 1970s and 198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D-granting CS depts grew from 6 in 1965 to 148 by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DoD-funded R&amp;D programs were relatively open to civilian resear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er 1946 seminar for industry at UPenn’s Moore School on “Theory and Techniques for Design of Electronic Digital Computers,” sponsored by military research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procurement and R&amp;D programs enlisted participation of new as well as established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procurement policy for much of the 1960s discouraged purchases of nonmilitary equipment from IBM, contrasting with European “national champion” poli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6 settlement of federal antitrust suit against IBM mandated licensing of computer-related patents, further reducing entry b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share of overall industry sales declined after 1950s, but federal sales remained significant in high-end computers (40% in 1972, 13% in 198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hardwar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of federal poli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 semiconductors, federal antitrust policy encouraged interfirm competition, entry of new firms, interfirm flows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R&amp;D spending was motivated largely by national security needs, but military programs were relatively accessible to civilian researchers and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amp;D funding supported creation of a large, university-based research infrastructure that combined research and 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urement supported entry and discriminated against dominant domestic supplier (IBM) in nondefense applications through the 1960s, the antithesis of European “national champion”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er softwar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though federal R&amp;D investment and procurement were less significant, the US computer software industry emerged from foundations laid by federal policy in computer hardw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 production  for SAGE during 1950s was managed by RAND (later, the Systems Development Corp.), and served as a “trade school” for SW develop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D HW procurement influenced development of some “standard” SW languages, e.g., COBOL in late 1950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antitrust and procurement policies influenced growth of independent SW industry in late 196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C-based federal computer services firms began to develop 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“unbundling” of SW &amp; HW pricing under antitrust pressure in 1968 facilitated entry by independent SW develop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0:41:56Z</dcterms:created>
  <dc:creator>David Mowery</dc:creator>
  <dc:description/>
  <dc:language>en-US</dc:language>
  <cp:lastModifiedBy>burke</cp:lastModifiedBy>
  <dcterms:modified xsi:type="dcterms:W3CDTF">2009-10-26T16:56:18Z</dcterms:modified>
  <cp:revision>103</cp:revision>
  <dc:subject/>
  <dc:title>PowerPoint Presentation</dc:title>
</cp:coreProperties>
</file>