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1AC5-8D2D-416E-A4D2-C2591F5DC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7C7C-986A-422C-996D-05ECBB2EC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53BB-A27E-46C8-997E-FFD66AFD8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A66A-BAE1-4B76-AE12-1F182347A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551F-293E-4E97-A192-26076F299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1083-F1E3-4FBE-A815-286CEFBCF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ECB2-D2E3-42AC-BADE-A214741DD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D6CA-E72C-4878-A565-189123E96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EB02-27B3-4FBF-914A-E72C48B44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9C48-F927-4DAB-8257-DFCD30F0C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A5F3-53DD-4D7C-9F52-F08C6DE9F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8CC6-721B-448A-9D5D-C79A6B5D1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9696-79C8-49B4-ADC8-D28BD79A7E7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obility of inventors and the productivity of research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4360" y="299736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uel Trajtenbe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l Aviv University, NBER and CEP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BER SI, July 200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EE3F-40A9-4B57-BD61-15E239C97B57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obility, Exposure and the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roductivity of R&amp;D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f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and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true, then the researcher that moves likely to be exposed to more, and more diverse, bits of K, hence th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b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hat she will invent increases; i.e. tentative hypothesi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obility  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R&amp;D productiv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(hence we attend conferences like this one…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ity also entails a positiv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xternalit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since not only the moving inventor gets increased exposure, but also her new colleagues get exposed to her, benefiting likewise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re may be too little mob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43F6-80BD-4873-8E01-A368D1083E0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econd theme/research agend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rnessing Patent Data on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ventors for Economic Research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ents contain also information about identity of inventors (millions of them); unable to use it so far because of th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“who is who?”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problem, now made possible, vast research opportunities opened up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not just for mobility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5C8F-2FB4-4130-A858-088EA8C3543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tent data used in research so far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339920"/>
            <a:ext cx="739152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os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ical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ographic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igne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e.g. linked to Compust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itations made and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tes (applied, granted)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ther: renewals, claims, litigation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ut also inventors data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D191-6168-457E-A19B-8EB292F4ADE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Front page of patent </a:t>
            </a: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(partial)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838080"/>
            <a:ext cx="8610480" cy="56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nited States Patent     6,539,988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ressurized container adapter for charging automotive system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nventor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wan; David M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(Brooklyn, NY);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chapers; Jochen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(New York, NY); </a:t>
            </a:r>
            <a:r>
              <a:rPr b="1" i="1" lang="en-US" sz="2600" spc="-1" strike="noStrike">
                <a:solidFill>
                  <a:srgbClr val="ff00ff"/>
                </a:solidFill>
                <a:latin typeface="Times New Roman"/>
              </a:rPr>
              <a:t>Trachtenberg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1" i="1" lang="en-US" sz="2600" spc="-1" strike="noStrike">
                <a:solidFill>
                  <a:srgbClr val="ff00ff"/>
                </a:solidFill>
                <a:latin typeface="Times New Roman"/>
              </a:rPr>
              <a:t>Saul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(New York, NY);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Nikolayev; Nikolay V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(Flushing, NY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ssignee: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terdynamics, Inc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(Brooklyn, NY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Filed: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December 28, 200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urrent U.S. Class:141/67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; 137/614.04; 141/351; 251/149.1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tern'l Class: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B65B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C3D1-314A-474F-9C92-F6699DAB4158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ing inventors da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803160"/>
            <a:ext cx="8610480" cy="56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st research potential in inventors data,  not been used much yet (*). Kind of research question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llovers through movement of inventors across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ntries, regions, assignees, institutions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uman/innovation capital” of inventor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vity of R&amp;D in firms as function of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entors with different “histories”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vity of inventors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fect of work in teams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tworks;    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more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D2BA-2529-4A83-9805-059A7FA77EA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arting point: The Inventors Fi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838080"/>
            <a:ext cx="83818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NBER/Hall-Jaffe-Trajtenberg Patent Data File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contains &gt; 2 million patents, and ~ 16 million patent citation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n average, there are ~ 2 inventors per patent, =&gt; the “Inventors File” comprises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4,298,912 records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ach record includes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(aside from info on the patent itself)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name of the inventor (Last, first, middle, surname modifie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ddress, City, Country (zip, State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2A27-8F33-431C-8009-CE50F09DCE2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ey Issue: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ho is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28600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914400"/>
            <a:ext cx="86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How do we know that two records with “same” or “similar” names refer to the same inventor?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81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Is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Manuel Trajtenberg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 the same inventor as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Manuel Trajtenberg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David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81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Is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Manuel Tra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j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tenberg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David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the same inventor as Manuel Tra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tenberg? Same as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Manuel D. Trajtenberg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Magnitude of problem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Sheer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size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: over 4 million “records”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  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Have to rely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only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 on information given in patents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About ½ of all patents are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foreign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 (non-US),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	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David"/>
              </a:rPr>
              <a:t>problems with e.g. Asian names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CAF3-C597-43CE-8BA0-532F70CA12A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-Stage Methodology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tching Nam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838080"/>
            <a:ext cx="853452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ge 1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 together record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“suspected” of being the same inventor: those wi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cal names, as well as sufficiently similar names, e.g. Manuel Tra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nberg and Manuel Tra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nberg 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  <a:ea typeface="David"/>
              </a:rPr>
              <a:t>“Type I error”: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David"/>
              </a:rPr>
              <a:t> if miss names that should go together =&gt; undermatching, “too many” inventors, too little mobility, etc.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Stage 2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Match records/names within the above set deemed to be the same inventor, according to a set of criteria 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David"/>
              </a:rPr>
              <a:t>(“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  <a:ea typeface="David"/>
              </a:rPr>
              <a:t>Type II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  <a:ea typeface="David"/>
              </a:rPr>
              <a:t>error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David"/>
              </a:rPr>
              <a:t>”: If match when shouldn’t then too few inventors, too much mobility, etc.)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Critical stag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BCD4-D38D-4C18-BBC9-8A0623A10A2E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rst stage: expand to “similar” nam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76212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Want to consider Tra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enberg and Tra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enberg as potentially being same inventor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828800"/>
            <a:ext cx="86868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Use th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SOUNDEX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coding method: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(from US NARA: National Archives and Records Administr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590920"/>
            <a:ext cx="4724280" cy="309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 F P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 G J K Q S X Z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wels, H W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7150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Example: Griliches’s Soundex i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G642200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same code for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Grilik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, but also for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Garlic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E648-6E72-4C6F-B006-6EC727ED564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stage: methodology for matching nam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85800"/>
            <a:ext cx="8763120" cy="59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f two records display the same name,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ow do we know they refer to the same inventor?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.g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ohn_ $_ Smith:  558 record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Compare the two records according to data given in the patents 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address, tech field, assignee, et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.); give “scores” for each matching crite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Examine other links between the two records (shared “partner”, cite each other); give scores if link hold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Compute overall score for the pair, if above threshold then make the “match”, e.g. decide it is same inven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David"/>
              </a:rPr>
              <a:t>Set threshold &amp; scoring system considering the two types of error: over/under-mat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981080"/>
            <a:ext cx="8381880" cy="3657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DD33-7A30-4CCA-8ABC-86F510A752C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Plan of Talk</a:t>
            </a: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me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Mobility as object of study in economics; in particular mobility of inventors  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Harnessing patent data on inventors for economic research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Study of inventors’ mobility – first-cut econometric resul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mes as promising research agend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486400"/>
            <a:ext cx="670536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245C-7ABC-4C60-B245-8E976EA2A7A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riteria of varying strength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219320"/>
            <a:ext cx="86868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trong cri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any of them sufficient for a match, for pair of records sharing same Soundex- coded name: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ame full address, self-citation, shared part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edium criteri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David"/>
              </a:rPr>
              <a:t>– an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 them sufficient for a match of records having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dentica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mes: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ame middle name, same Zip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US only).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Weak cri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a combination of these needed for a matc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3C5D-6451-486E-8615-8A7EF2F0CD5C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riteria dependant upon name frequency and size threshold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219320"/>
            <a:ext cx="845820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Size threshol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information that two individuals are located in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New Yor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weaker than the two being located in a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small town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ame for assignee: two working for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IBM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weaker than the two working for small startu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Name frequency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“rare”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name, then higher likelihood that two individuals with that name are the same guy. Not so for very common names.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57DA-0E27-4FE7-8B0D-858644C329A4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atrix of size thresholds and scores</a:t>
            </a:r>
            <a:br>
              <a:rPr sz="32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(in terms of number of patents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1295280"/>
          <a:ext cx="8534520" cy="5653080"/>
        </p:xfrm>
        <a:graphic>
          <a:graphicData uri="http://schemas.openxmlformats.org/drawingml/2006/table">
            <a:tbl>
              <a:tblPr/>
              <a:tblGrid>
                <a:gridCol w="1600200"/>
                <a:gridCol w="1676520"/>
                <a:gridCol w="1981080"/>
                <a:gridCol w="1752840"/>
                <a:gridCol w="15238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hresholds f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ame frequ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ar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m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elow thresh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bove thresh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3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media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ssign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atent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,5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media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E88B-9BD1-42E7-B715-CE25A5A8E58F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pose Transitivit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413000"/>
            <a:ext cx="7543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matched  to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matched to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matched to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ven thoug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and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may have little or nothing in common, except of course for (at least) same Soundex-coded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3F10-E661-4A9C-83A8-E45546A61324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Diagnostics: ex post average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atching score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052640"/>
            <a:ext cx="80769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Diagnostic tools critical: otherwise too large a file to assess the “quality” of the matches don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mpute average matching score for each “group” of matched inventor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for each pair (permutation) compute the actual matching score (e.g. the sum of the points of each common criteria); there are 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m=n (n-1)/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permutation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mpute the average a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5486400"/>
                <a:ext cx="35053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irwis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or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4314-B30C-4AF0-8522-B1CAEAE83997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number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38188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inal patent fi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2,139,31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pa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verage number of inventors per patent: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2.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4,298,91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records” 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atent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invento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nd resul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atching rendered 1,565,780 distinct inven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verage number of patents per inventor: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7432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343400"/>
            <a:ext cx="8458200" cy="1822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1511-19A2-4E1E-8058-6BE48DC60F7F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tching in perspectiv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768240"/>
            <a:ext cx="800100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matching (each appearance of a name in a patent regarded as a different inventor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4,300,000  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(4,298,91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ching with our procedu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~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1,600,000  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(1,565,780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ïve” matching - each exact [family name_ first name] a different inven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1,200,000 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(1,211,2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ïve matching with Soundex-coded nam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800,000     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(844,17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B3B7-6F04-4AAE-B44B-23D96D70F45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umber of patents per inventor 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or how much “action” can we expect?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773360"/>
            <a:ext cx="7315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 of 1,565,780 inventors, the number of inventors wit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ust one patent:  911,943   (58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or more:          653,837   (4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 or more:    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203,30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(13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 or more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73,07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(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5ABE-5F7A-4FE3-AB26-6CFC4BB0C6A4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ity of inventors across assigne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00200" y="609480"/>
          <a:ext cx="6095880" cy="5886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umber of assign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umber of inventor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with patents&gt;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37,2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8,7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,7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,8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,2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ota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53,8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# of mov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6,581 (33%)* 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* But probably overstates moves: need to consolidate assignee code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21B3-7BF5-4252-B451-609E5F40F47E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ity of inventors across US stat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00200" y="914400"/>
          <a:ext cx="6095880" cy="5502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umber of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a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umber of US inventor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with patents&gt;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2,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9,1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3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ota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36,4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# of mov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,133 (13%)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7A8C-CBFF-403E-BF13-E8F0976D2AB3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ity as theme of research in economic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gely neglected, exciting research opportunities ahead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very econ phenomenon takes place in a certai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“location” in time and spa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 Lots of attention to the time dimension (because of discounting, depreciation, uncertainty, etc.) Less so to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pa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rad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&gt; Movement of goods and services; globalization, outsourcing/offshoring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allocatio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f resourc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=&gt;  Mobility of factors (across firms and regions; migration, FDI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d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mergence of the Knowledge Econom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&gt; reliance 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semination of Knowledge, of info, of idea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7C70-0F05-47C0-9D5B-1FE7E5FC077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ity of inventors across countri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00200" y="609480"/>
          <a:ext cx="6095880" cy="6046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umber of count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umber of inventor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with patents&gt;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41,12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,3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ota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53,8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# of mov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,710 (1.9%) 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*Another 911,943 inventors had only one patent each, and hence could be located just in one countr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736640" y="5559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677D-3F4A-4C98-8A26-E1225FFB40C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ws of Inventors across countrie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(“brain drain”, “brain gain”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676520"/>
          <a:ext cx="91440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143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09480" y="1600200"/>
            <a:ext cx="15264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AAF2-5ED0-4A4F-984F-FDC9842C816E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t international flow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914400"/>
          <a:ext cx="911376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137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477120" y="2895480"/>
            <a:ext cx="76176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562720"/>
            <a:ext cx="76176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295280"/>
            <a:ext cx="76212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057400"/>
            <a:ext cx="76176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265A-9DFF-4AE6-A4CF-CBEFA8D4869F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International Mobility of Patent Inventors: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x-country moves normalized by number of patents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066680"/>
          <a:ext cx="883908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83908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E367-854C-43A4-825E-4436BC1BA608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ational Diversity of Teams of Patent Inventor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1 – Herfindahl of country of residence of inventors in a given patent, yearly means)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838080"/>
          <a:ext cx="8991720" cy="581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C74A-330E-4B70-9139-18E5DB10405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ws of inventors across US stat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990720"/>
          <a:ext cx="914400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5943600"/>
          <a:ext cx="7707600" cy="50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943600"/>
                    <a:ext cx="7707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-30492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3F8F-4D64-43D7-A934-8E81EE8F655B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ographic diversity of inventors in the U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1 – Herfindahl of state of residence of inventors in a given patent, yearly means)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066680"/>
          <a:ext cx="8763120" cy="53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76312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34F8-1AD9-4AD9-A1C0-7CC4702E4818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ws of Inventors across types of assigne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522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286000"/>
          <a:ext cx="8305920" cy="26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830592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255C-23A0-4396-AE76-8598D58C385A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mpirical analysi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(i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Each inventor one observation (descriptive)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Number of mov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f(inventor-level variables, citations received, controls)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rast US, Japan, ROW;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00K obs: # of inventors with patents&gt;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(ii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ne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observation: each patent of each invent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itations to this pat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f(controls, previous history of inventor, moved or no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bability of moving in this pat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f(controls, previous history, quality of previous patents)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1.3 million obs: records of US inventors with patents&gt;1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8C71-E4BB-44D5-AB7D-42ED7FD5FF44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10880"/>
            <a:ext cx="85345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Mobility of Inventors - A First Loo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ach inventor one observ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838980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mmary variables of their patenting care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umber of mo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e.g. across countries,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ignees, cities, etc.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ean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 their patents: citations, number of “partners” (co-inventors), % of their patents in tech categori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im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year of first and last patent, hence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ge”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1999 – year first patent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Durati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year l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st patent – year first pat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B41F-DE43-4453-9C99-B4F2756DD48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allocation, Mobility and Growth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Growth </a:t>
            </a:r>
            <a:r>
              <a:rPr b="1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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 constant reallocation of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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 mobility of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e.g. dramatic shifts from agro to industry to services; within: to ICT, to Health Care.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eed systematic understanding of,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Factors facilitating and hindering mobility;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nefits associated with better allocation, increased specialization, and costs e.g. disruptio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(see e.g. integration of accession countries in EU)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BC82-C909-4A44-9D2B-DC53443A4BA0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ity of inventors – con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052640"/>
            <a:ext cx="842472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gress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umber of mo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ols (e.g. number of patents, du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 of patents in 6 tech categories; “tech focus” (1 – Herf of patents in tech catego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e,” number of part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mportance” of patents: # of forward citation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i.e. citations receiv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</a:rPr>
              <a:t>Contrast US, Japan, Rest of the World (ROW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F648-E4C7-47EC-93AB-3670B5021D4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ity of Inventors – cont. 2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413000"/>
            <a:ext cx="835164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rely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descriptiv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regressions, since endogeneity/ sele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overs may be already “special” (e.g. produce more important patents), and/or the moving itself may impact them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 at least differences across countries may be informa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gative Binomial regressions; inventors with more than one patent (with 1 could not observe mov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2FBD-172B-460D-AD33-FF86BCC78FAE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908000" y="0"/>
          <a:ext cx="6193080" cy="6861240"/>
        </p:xfrm>
        <a:graphic>
          <a:graphicData uri="http://schemas.openxmlformats.org/drawingml/2006/table">
            <a:tbl>
              <a:tblPr/>
              <a:tblGrid>
                <a:gridCol w="1982880"/>
                <a:gridCol w="2052720"/>
                <a:gridCol w="2157480"/>
              </a:tblGrid>
              <a:tr h="776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 of assignee moves per inven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mo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ven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ven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,2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5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3,8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05AC-CEB0-4EE3-99FA-B331D594DD9A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0" cy="6923160"/>
        </p:xfrm>
        <a:graphic>
          <a:graphicData uri="http://schemas.openxmlformats.org/drawingml/2006/table">
            <a:tbl>
              <a:tblPr/>
              <a:tblGrid>
                <a:gridCol w="3581280"/>
                <a:gridCol w="1884600"/>
                <a:gridCol w="1823760"/>
                <a:gridCol w="1854360"/>
              </a:tblGrid>
              <a:tr h="1299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. variable: number of moves across assigne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e Binomial -  obs: 653,837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e: ROW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et of resul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-statisti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* 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* 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S*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S*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_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_Pat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6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mmies for tech fields, interacted w/US, 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1CA3-4681-4DA2-9704-CC4229FAA2B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629040"/>
        </p:xfrm>
        <a:graphic>
          <a:graphicData uri="http://schemas.openxmlformats.org/drawingml/2006/table">
            <a:tbl>
              <a:tblPr/>
              <a:tblGrid>
                <a:gridCol w="3276720"/>
                <a:gridCol w="1805040"/>
                <a:gridCol w="1941480"/>
                <a:gridCol w="2120760"/>
              </a:tblGrid>
              <a:tr h="1318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s across assignees – cont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-stati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8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</a:t>
                      </a:r>
                      <a:r>
                        <a:rPr b="1" i="1" lang="en-GB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U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</a:t>
                      </a:r>
                      <a:r>
                        <a:rPr b="1" i="1" lang="en-GB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JP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6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8E63-75E7-4EE8-BEF3-1797DE3D22C4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85320"/>
            <a:ext cx="8569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ovement of inventors across assignees associated with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231920"/>
            <a:ext cx="882000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93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100" spc="-1" strike="noStrike">
                <a:solidFill>
                  <a:srgbClr val="ffff00"/>
                </a:solidFill>
                <a:latin typeface="Times New Roman"/>
              </a:rPr>
              <a:t>Younger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</a:rPr>
              <a:t>” inventor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ving more patents in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Drugs and Med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ving mor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art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ng mor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echnologically focuse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i.e. their patents more concentrated in tech categori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ving more “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mporta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” patents (but the opposite in Japan: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nly Japanese “losers” move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imilar results for moves across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AC9C-8728-4293-A75D-B154CB024BF1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in differences between the US, Japan and ROW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201680"/>
            <a:ext cx="8351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US inventors tend to mov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more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cross assignees,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 les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across countri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Japanese inventors tend to mov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much les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than ROW and US inven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ventors that move across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countrie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have more important patents,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so US inven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Japanese inventors that move across assignees hav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less important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patents, and are older than ROW, U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ventors in Drugs and Medical move a lot, particularly Japanese inventors.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4D9A-CE96-46E6-92D3-C196672AA2C2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nel of Inventor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838080"/>
            <a:ext cx="8713800" cy="57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observation: a patent of an inventor; hence have sequence for each inventor, can study what “causes” moves, and what the moves “cause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ok 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” of patents (e.g. citations received) as function of mo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ves of inven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across assignees,   geography) as function of past histor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 do that for US patents only (1.7 million ob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ut again, possible endogeneity/simultaneit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BDBF-79AC-46AE-B832-E9684C5BE141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75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stribution of number of patents per inventor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(for inventors with less than 20 patents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057400" y="1943280"/>
            <a:ext cx="2895480" cy="2412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24080" y="2362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More than 20 pa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D9A9-790F-45A6-B044-0CD348068ACD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stribution of mean citations per invent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for cites&lt;40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FC6C-C01E-4C68-AA3C-1F0A582C3BDD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at impacts mobilit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bility to trade, to reshuffle resources, and hence mobility, depend upon vast array of factors, mostly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t the conjunction of technology and institution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nsportation and communication technology,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organization of marke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al framework (e.g. enforcement of contract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ust, networks (see e.g. the Phoenicians, the Greeks, the Maghribi Traders – Avner Greif ), etc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team engine in 19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entury US manufacturing: impact not because cheaper, but allowed fo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locatio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mobility) of industry to urban centers.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1922-57C1-4B13-AD31-2A204D025A7A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332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stribution of inventors’ “Age”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999 – year of first patent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F516-18B8-4905-A218-987D12F28C93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44280"/>
          <a:ext cx="9144000" cy="6815160"/>
        </p:xfrm>
        <a:graphic>
          <a:graphicData uri="http://schemas.openxmlformats.org/drawingml/2006/table">
            <a:tbl>
              <a:tblPr/>
              <a:tblGrid>
                <a:gridCol w="3492360"/>
                <a:gridCol w="1727280"/>
                <a:gridCol w="1728720"/>
                <a:gridCol w="2195640"/>
              </a:tblGrid>
              <a:tr h="96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 Variable: Citations received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S, US inventors, 1.3 M obs.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hite S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.2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.9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_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5.1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_SE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6.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_SEQ^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E-0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E-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_Past_A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.8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D ASSIGN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D GEOGRAPH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s_Assignees (-1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3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s_Geography(-1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5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controls for 6 tech categori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0B05-6325-4EB3-9A42-18F7CE359F2B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ck Robustnes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219320"/>
            <a:ext cx="8064360" cy="49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n similar regressions with other indicators of patent “importance” as dependent variables (all other “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’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” included as well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General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(1 – Herfindahl on patent classe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 citations receiv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Original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(1 – Herfindahl on patent classe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 citations ma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umber of claim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7F82-4728-464A-91D0-415F4D514EC1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uting Generality &amp; Originalit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867280" y="1413000"/>
                <a:ext cx="32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riginality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5280" y="3429000"/>
            <a:ext cx="793800" cy="580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1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1052640"/>
            <a:ext cx="0" cy="5256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981000"/>
            <a:ext cx="0" cy="5256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981000"/>
            <a:ext cx="0" cy="53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1052640"/>
            <a:ext cx="0" cy="5329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472428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4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508464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6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566100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56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422100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501336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8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580536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98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0" idx="3"/>
            <a:endCxn id="175" idx="2"/>
          </p:cNvCxnSpPr>
          <p:nvPr/>
        </p:nvCxnSpPr>
        <p:spPr>
          <a:xfrm flipV="1">
            <a:off x="3205080" y="4066920"/>
            <a:ext cx="828000" cy="953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1" idx="0"/>
            <a:endCxn id="175" idx="2"/>
          </p:cNvCxnSpPr>
          <p:nvPr/>
        </p:nvCxnSpPr>
        <p:spPr>
          <a:xfrm flipH="1" flipV="1">
            <a:off x="4031640" y="4066920"/>
            <a:ext cx="37080" cy="1018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0"/>
          </p:cNvCxnSpPr>
          <p:nvPr/>
        </p:nvCxnSpPr>
        <p:spPr>
          <a:xfrm flipV="1">
            <a:off x="2987640" y="4221000"/>
            <a:ext cx="100872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3" idx="0"/>
            <a:endCxn id="175" idx="3"/>
          </p:cNvCxnSpPr>
          <p:nvPr/>
        </p:nvCxnSpPr>
        <p:spPr>
          <a:xfrm flipH="1" flipV="1">
            <a:off x="4447440" y="3738240"/>
            <a:ext cx="772200" cy="483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4" idx="1"/>
            <a:endCxn id="175" idx="2"/>
          </p:cNvCxnSpPr>
          <p:nvPr/>
        </p:nvCxnSpPr>
        <p:spPr>
          <a:xfrm flipH="1" flipV="1">
            <a:off x="4031640" y="4066920"/>
            <a:ext cx="827640" cy="124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5" idx="1"/>
            <a:endCxn id="175" idx="2"/>
          </p:cNvCxnSpPr>
          <p:nvPr/>
        </p:nvCxnSpPr>
        <p:spPr>
          <a:xfrm flipH="1" flipV="1">
            <a:off x="4031640" y="4066560"/>
            <a:ext cx="756360" cy="203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2700360" y="206064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0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242100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0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285264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1484280"/>
            <a:ext cx="720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ent 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75" idx="0"/>
            <a:endCxn id="194" idx="3"/>
          </p:cNvCxnSpPr>
          <p:nvPr/>
        </p:nvCxnSpPr>
        <p:spPr>
          <a:xfrm flipH="1" flipV="1">
            <a:off x="3347280" y="3147480"/>
            <a:ext cx="685080" cy="262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75" idx="0"/>
            <a:endCxn id="193" idx="3"/>
          </p:cNvCxnSpPr>
          <p:nvPr/>
        </p:nvCxnSpPr>
        <p:spPr>
          <a:xfrm flipH="1" flipV="1">
            <a:off x="3204720" y="2715480"/>
            <a:ext cx="828000" cy="694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75" idx="0"/>
            <a:endCxn id="192" idx="3"/>
          </p:cNvCxnSpPr>
          <p:nvPr/>
        </p:nvCxnSpPr>
        <p:spPr>
          <a:xfrm flipH="1" flipV="1">
            <a:off x="3420720" y="2355480"/>
            <a:ext cx="612000" cy="10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75" idx="0"/>
            <a:endCxn id="195" idx="2"/>
          </p:cNvCxnSpPr>
          <p:nvPr/>
        </p:nvCxnSpPr>
        <p:spPr>
          <a:xfrm flipV="1">
            <a:off x="4032360" y="2074680"/>
            <a:ext cx="1187640" cy="1335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2484360" y="9079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.class 1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64000" y="9079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.class 2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907920"/>
            <a:ext cx="10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.class 33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2060640"/>
            <a:ext cx="0" cy="316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141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5013360"/>
            <a:ext cx="11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 Citing pa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242100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Cited pa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867280" y="4365720"/>
                <a:ext cx="3276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ity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6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6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6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0B92-26DF-48F1-82BD-452BADD1F5B6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1557360"/>
          <a:ext cx="9144000" cy="5472000"/>
        </p:xfrm>
        <a:graphic>
          <a:graphicData uri="http://schemas.openxmlformats.org/drawingml/2006/table">
            <a:tbl>
              <a:tblPr/>
              <a:tblGrid>
                <a:gridCol w="2701800"/>
                <a:gridCol w="1555920"/>
                <a:gridCol w="1703520"/>
                <a:gridCol w="1923840"/>
                <a:gridCol w="12589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 Variable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ta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it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it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an of dep.va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IGN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.5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.9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.0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4.4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RAPH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.2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.0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.3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ignees (-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7.3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8.4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.8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raphy(-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.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2E-0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3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.4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3.4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act of moves on qualitative indicators of pate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(t-values in parenthesis, based on White SE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31C2-5624-439C-B7F5-C12797564B8F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s – variables other than mov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8137440" cy="46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rlier patents tend to be more “valuable”, bu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rt of quadratic (well, bottoms at 250…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y significant lagged (mean) dependen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riables (sort of “fixed effect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y positive impact of number of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artne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ighting by scores does not make much of 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ce, but fit impro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Don’t have to worry about multicollinearity…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AEE5-DAA2-4891-969F-C6554BA74554}" type="slidenum">
              <a:t>55</a:t>
            </a:fld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s: Impact of mov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2421000"/>
            <a:ext cx="7274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2120"/>
            <a:ext cx="861048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I. Contemporary mov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Having just moved across assignees and/or location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has a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positive impact on the “value”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of patent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aken at the new plac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oving to a new assignee has a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 stronger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mpact than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oving geographically (except as measured by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itation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II. Previous mov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o impact of previous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geographical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moves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Past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assignee move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 have a small positive impact on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originality and claims, a small negative small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David"/>
              </a:rPr>
              <a:t>impact on cit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BE0B-49FC-43DF-BADD-EBBFB291EF1A}" type="slidenum">
              <a:t>56</a:t>
            </a:fld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228600"/>
          <a:ext cx="9144000" cy="6477120"/>
        </p:xfrm>
        <a:graphic>
          <a:graphicData uri="http://schemas.openxmlformats.org/drawingml/2006/table">
            <a:tbl>
              <a:tblPr/>
              <a:tblGrid>
                <a:gridCol w="3564000"/>
                <a:gridCol w="1871640"/>
                <a:gridCol w="1803240"/>
                <a:gridCol w="1905120"/>
              </a:tblGrid>
              <a:tr h="1995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hose that moved assignees</a:t>
                      </a:r>
                      <a:r>
                        <a:rPr b="1" i="1" lang="en-GB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57,401 obs.)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. Variable: citations receiv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eline: move to and from gover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Stati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rpo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garag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rpo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garag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828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ther controls inclu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.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827A-711D-42E4-9CA1-15D065A2BF68}" type="slidenum">
              <a:t>57</a:t>
            </a:fld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 those that moved assigne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981000"/>
            <a:ext cx="7920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ving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 corporation results in much better patents than moving to a government agency or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 “garage”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in does not matter much: coming from a corporation barely better than coming from the government or “garage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y similar results for the other qualitative indicators, except for originality: no significant differences t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F72D-CE4B-473C-B932-01B3D9152372}" type="slidenum">
              <a:t>58</a:t>
            </a:fld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angle on Panel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move or not to mov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1905120"/>
            <a:ext cx="76644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ine the decision to “move or not”, of each inventor at each point in time (actually with each additional patent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 a function of the “past history /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formance” of the inventor, i.e. 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quality” of his/her previous patent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18F4-3374-4B97-A510-85105235A841}" type="slidenum">
              <a:t>59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ity of Inventors </a:t>
            </a:r>
            <a:br>
              <a:rPr sz="36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scientists as well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mpirical observation: we observe frequent movement of inventors across firms, regions, countries (see below).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(i) Why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do inventors move? What economic rationale underlies their mobility?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(ii)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What are th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consequence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of moving? For the individual inventor, for the firm, for the economy?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8FEE-8745-4D12-B8C7-5DB451296566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1557360"/>
          <a:ext cx="9144000" cy="5200560"/>
        </p:xfrm>
        <a:graphic>
          <a:graphicData uri="http://schemas.openxmlformats.org/drawingml/2006/table">
            <a:tbl>
              <a:tblPr/>
              <a:tblGrid>
                <a:gridCol w="3452760"/>
                <a:gridCol w="1766880"/>
                <a:gridCol w="1906560"/>
                <a:gridCol w="2017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-Statisti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2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_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.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_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ent_Sequ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S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ORATE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s Assignees 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also Tech category dummi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424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ependent Variable: 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</a:rPr>
              <a:t>move to other assignee</a:t>
            </a:r>
            <a:br>
              <a:rPr sz="3600"/>
            </a:b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inary Logit - 1,062,037 obs.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(from 2</a:t>
            </a:r>
            <a:r>
              <a:rPr b="1" i="1" lang="en-GB" sz="28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patent on)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set of estimat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74BA-D880-4B03-A763-804B2FDEC2B5}" type="slidenum">
              <a:t>60</a:t>
            </a:fld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</a:rPr>
              <a:t>move to other assignee - continued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Binary Logit – 2</a:t>
            </a:r>
            <a:r>
              <a:rPr b="1" lang="en-GB" sz="36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 set of estimat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700280"/>
          <a:ext cx="9144000" cy="3701880"/>
        </p:xfrm>
        <a:graphic>
          <a:graphicData uri="http://schemas.openxmlformats.org/drawingml/2006/table">
            <a:tbl>
              <a:tblPr/>
              <a:tblGrid>
                <a:gridCol w="3452760"/>
                <a:gridCol w="1911240"/>
                <a:gridCol w="1872000"/>
                <a:gridCol w="1908000"/>
              </a:tblGrid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-Stati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(-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ITY(-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ITY(-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(-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4F8D-ED70-4B67-BD3D-322F6DB1C8F5}" type="slidenum">
              <a:t>61</a:t>
            </a:fld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e to other geographical location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nary Logit – includes all other control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773360"/>
          <a:ext cx="9144000" cy="3340080"/>
        </p:xfrm>
        <a:graphic>
          <a:graphicData uri="http://schemas.openxmlformats.org/drawingml/2006/table">
            <a:tbl>
              <a:tblPr/>
              <a:tblGrid>
                <a:gridCol w="3203640"/>
                <a:gridCol w="1900080"/>
                <a:gridCol w="2022480"/>
                <a:gridCol w="2017800"/>
              </a:tblGrid>
              <a:tr h="57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-Stati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(-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ITY(-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ITY(-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(-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814F-280B-4726-BE08-4DB0280B4444}" type="slidenum">
              <a:t>62</a:t>
            </a:fld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your patenting “history” affects the probability of moving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557360"/>
            <a:ext cx="7921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ar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ore likely to mov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both to another assignee and/or to another locatio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rly on in your patenting care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you had fewer part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you do NOT work for a cor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you have a previous history of mov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sort of fixed eff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6E14-F536-4194-A31D-BB2746D2A0E5}" type="slidenum">
              <a:t>63</a:t>
            </a:fld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obability of moving -  cont. 1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1268280"/>
            <a:ext cx="7489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ar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ikely to move if, prior to the move, you have patents that are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re “general”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very robu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re highly c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ar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ikely to move if you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re original pa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tents with more cla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4180-B872-464E-B3D8-411CEE025D0C}" type="slidenum">
              <a:t>64</a:t>
            </a:fld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obability of moving -  cont. 2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1628640"/>
            <a:ext cx="822780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re “general” patents: useful in a wid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nge of fields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y cited: more down-the-line application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esumably more “movable” inven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 why negative sign on claims and 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in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378936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F3AD-D458-4ED1-B2CC-B132FACEBBEA}" type="slidenum">
              <a:t>65</a:t>
            </a:fld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obability of moving -  cont.3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1197000"/>
            <a:ext cx="835344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mportance”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n the sense of more citations and higher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general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hard to observe/verify in advance, hence inventor probably has better inside information than employer, the latter will not act to retain inven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Originalit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Claim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known by the time the patent is filed, hence employer will try to preempt mov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ut then this should hold just for corporations, not for others!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52E4-58BC-442A-94BF-1412F0622BCD}" type="slidenum">
              <a:t>66</a:t>
            </a:fld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e to other assignee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I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nclude interactions w/lagged corporate dumm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295280"/>
          <a:ext cx="9144000" cy="5561280"/>
        </p:xfrm>
        <a:graphic>
          <a:graphicData uri="http://schemas.openxmlformats.org/drawingml/2006/table">
            <a:tbl>
              <a:tblPr/>
              <a:tblGrid>
                <a:gridCol w="3892680"/>
                <a:gridCol w="1758960"/>
                <a:gridCol w="1657080"/>
                <a:gridCol w="1835280"/>
              </a:tblGrid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 Err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-Statisti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(-1)*Corp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ity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ity(-1)*CORP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ity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ity(-1)*CORP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.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(-1)*CORP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.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orate(-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BEEB-6729-4FD9-88B0-48F28C4DD964}" type="slidenum">
              <a:t>67</a:t>
            </a:fld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int estimates: coming from a corporation versus coming from a “garage” or governmen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258920" y="1255680"/>
          <a:ext cx="7416720" cy="5602320"/>
        </p:xfrm>
        <a:graphic>
          <a:graphicData uri="http://schemas.openxmlformats.org/drawingml/2006/table">
            <a:tbl>
              <a:tblPr/>
              <a:tblGrid>
                <a:gridCol w="5108400"/>
                <a:gridCol w="2308320"/>
              </a:tblGrid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int estim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_Citations(-1): non-cor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ity(-1): non-cor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ity(-1): non-cor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(-1): non-cor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AA99-B528-432D-BBE4-521D6E3F609C}" type="slidenum">
              <a:t>68</a:t>
            </a:fld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me “take away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836640"/>
            <a:ext cx="82818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ventors that have already produced “better”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ents tend to move more often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versely, moving seems to impact favorably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“quality” of subsequent paten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ventors have better information on the expect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act of their patents than their employers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nce more likely to move if having patent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ater generality and citations (which are hard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serve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x an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loyers successfully preempt moving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ventors with patents that are “better” i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servable ways (claims and origin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063C-904C-4DBD-A3E9-3D863840751E}" type="slidenum">
              <a:t>69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3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Determinants of Inventors’ Mobility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con 101 rationale (if voluntary move),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(Expected value of move – costs) &gt; (expected value of staying pu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point is to provide actual empirical content to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(move)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osts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(stay)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ntativ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illustrative): if inventor had more fertile ideas, she will tend to move more, so as to find a better match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re move to? From large to small (start up) firms? From “garage” to corporations? From Universities to industry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7D72-3EAB-454D-905B-F7D4B16B983E}" type="slidenum">
              <a:t>7</a:t>
            </a:fld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urther 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914400"/>
            <a:ext cx="792504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al with endogeneity, bring in data 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rms, markets (work in progr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udy impact of inventors’ mobility on firms’ innovative performance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both way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together both data on mobility of inventors and on citations to trace spillo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udy mobility of inventors between regions and firms, as function of regional and firm-related vari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nd lets move 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C807-7D80-4A11-AA2E-CDF817D4F8F1}" type="slidenum">
              <a:t>70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pact of mobilit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Framework follows “Recombinant Growth” by M. Weitzman, QJE 1998 – cross-pollination…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probability of “inventing”, i.e. of creating a new bit of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, depends inter alia upon,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quantity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of existing bits of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to which the researcher is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exposed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variety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of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to which the researcher is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exposed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(think of it as different approaches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57D0-0451-4B90-BEDF-E02F90A4854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osure and Proximit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“Agora factor:”*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degree of effective exposure to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increases with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proximit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o and personal interaction with carriers of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most likely other researchers –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ven in the Internet era!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irical evidence: geographic localization of spillover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The benefits of exposure to any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arrier of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exhibit diminishing marginal returns  =&gt;  value of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variet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n expos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i="1" lang="en-US" sz="2100" spc="-1" strike="noStrike">
                <a:solidFill>
                  <a:srgbClr val="ffff00"/>
                </a:solidFill>
                <a:latin typeface="Times New Roman"/>
              </a:rPr>
              <a:t>See in particular the thriving intellectual life in the Agoras of Ionian poleis in western Anatolia, ~ 5</a:t>
            </a:r>
            <a:r>
              <a:rPr b="0" i="1" lang="en-US" sz="21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i="1" lang="en-US" sz="2100" spc="-1" strike="noStrike">
                <a:solidFill>
                  <a:srgbClr val="ffff00"/>
                </a:solidFill>
                <a:latin typeface="Times New Roman"/>
              </a:rPr>
              <a:t> century BC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D204-DA0E-48AD-ADDD-7BC10FE0DED3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09:01:14Z</dcterms:created>
  <dc:creator>.</dc:creator>
  <dc:description/>
  <dc:language>en-US</dc:language>
  <cp:lastModifiedBy>admin</cp:lastModifiedBy>
  <dcterms:modified xsi:type="dcterms:W3CDTF">2005-07-06T13:56:05Z</dcterms:modified>
  <cp:revision>216</cp:revision>
  <dc:subject/>
  <dc:title>סקטור ה- "היי טק" וצמיחת המשק</dc:title>
</cp:coreProperties>
</file>